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E41-2D7A-4DB6-8CDC-C8357F35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C4B-23F7-47EE-B520-8DBD3400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667-79DE-43B2-9C81-9E33FAEB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5D8-8BB1-41EA-963D-3F5B3DEC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4149-2A00-4969-88C2-8FD525F2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81D5-24D6-47FD-8D36-F6B19F40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7A19-A840-4A3D-85A0-AD7CC143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81CA-AC02-4639-90D2-27E999FC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FC63-0F87-48B1-AC55-CE559991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087B-11E7-4532-9C45-2C100B89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8D17-CE09-49D7-ADC9-3F52BB84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F79-4216-472A-A1FB-FF81FBE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86C7-4258-4F60-8AEF-2B2CD1F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FCAC-0493-4DFA-A8B5-19AB03DB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603-1035-4C2B-89E8-DD5750D7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ACE1-EF9F-4AEF-ABBE-5EDDD6F9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843-957B-4850-88C0-130C5484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BE0-AFE9-4E44-AF5C-A5D80BF6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4D2-AF2A-471F-9E5C-10E9DB6E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F38-C11E-4273-B212-CBBD4F08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B46-B304-4A11-8BF5-4AB7397C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895-945A-4DBA-BEF0-3CE2E6D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4C3-35D5-4C6F-B194-168EE49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03F-2CD5-41D6-9A04-58C60E7C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9A0B-6F28-4817-98FC-40CDDA4F61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BFA8-F208-491A-98B4-01048A5F71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章  国际资本流动与国际金融市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capital flow &amp; International financial mar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第三节  离岸金融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离岸金融市场的概念与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概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离岸金融市场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离岸金融市场的特点和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存款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贷款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四、离岸金融市场对世界经济的影响及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对世界经济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资本流动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资本流动的含义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国际资本流动的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考察国际资本流动可以从五个方面入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向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规模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的类型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性质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式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（二）国际资本流动的类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长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国际借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短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贸易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银行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保值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投机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国际资本流动理论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关于国际资本流动原因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完全竞争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生命周期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内在化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折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关于国际资本流动的效果与影响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般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缺口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雷布金斯基原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国际金融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国际金融市场概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国际金融市场概念与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传统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新型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国际金融市场形成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所在地必须有较为稳定的经济和政治环境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宽松的金融政策与优惠措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完善的金融市场结构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具备良好的地理条件、拥有完善的国际通讯设施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国际金融市场的形成与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金融市场的形成与衰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金融市场兴起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离岸金融市场的形成与发展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二、货币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内的短期资金借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货币市场的分类（按照资金融通形式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短期信贷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短期证券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库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可转让银行定期存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银行承兑汇票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商业票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贴现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资本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的长期资金市场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资本市场分类（按照贷款方式的不同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中长期贷款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-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长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长期贷款运作方式（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130-1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证券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政府债券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企业证券（公司债券、公司股票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外汇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外汇市场综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定义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广义的外汇市场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狭义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的形式（从交易情况划分）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无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有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外汇市场的组成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银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经纪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央银行等政府管汇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他，如跨国公司、投机商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世界主要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苏黎世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黄金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黄金市场简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五大黄金交易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黄金市场种类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交割期限划分：现货交易市场和期货交易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管制程度划分：自由交易市场和限制交易市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黄金市场的结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三）黄金市场的交易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现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期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四）世界主要黄金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伦敦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苏黎世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香港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加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2:50:17Z</dcterms:created>
  <dc:creator>MS User</dc:creator>
  <dc:description/>
  <dc:language>en-US</dc:language>
  <cp:lastModifiedBy>Dell</cp:lastModifiedBy>
  <dcterms:modified xsi:type="dcterms:W3CDTF">2021-08-23T22:46:23Z</dcterms:modified>
  <cp:revision>17</cp:revision>
  <dc:subject/>
  <dc:title>第四章  国际资本流动与国际金融市场</dc:title>
</cp:coreProperties>
</file>